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AD15-C407-4E20-8F63-3D9125E4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E00-B453-4C58-A531-BD181D6A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CB1-CB8B-4D03-ADB9-60AF4361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9B8-10D7-4B45-8258-CC46FEAB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5BC-A816-4F41-8D57-CFA087C2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8F25-6FA9-4698-A7F6-1F256B07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7935-ECA0-4380-8D2C-60409F1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5F32-4F7B-43F0-AC97-541DC21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C70-744D-40BD-94DD-7074BED9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106A-3A59-4F28-8F2A-05C2A35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308-1886-4B00-B1F9-43B0C69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589C-FFBE-4572-BA6F-A6EC619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8C8-0944-4526-8540-051CA66B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E164-C7D3-4A42-B8FB-9B356B2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776C-EAF7-4CD2-BB17-90DF4CC6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C2C4-11E2-4D52-A613-73B3EE8F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3662-6875-4E6A-9209-90DD56F3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D4FB-BF81-472B-9C6E-B4F3F893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D31-948E-4E99-95D8-CFF2A09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DE2-8856-46DE-8037-58BBCBD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BCF-7706-45F8-9C58-57C37A7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C6B-642A-4ECB-B04F-C0599F41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5CD-97D5-4823-BCF6-98C9AEC4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7E1-5855-4590-BB5B-75B136B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7B1-A7C9-495A-978E-850B0D3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F6FC-DBB4-45CB-B6B2-91717DA2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8F9-7EB7-4CCD-874F-DBA74F9C2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rrent Ev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 of the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(5 senten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teracy R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ainfall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mperature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2560" y="2133720"/>
          <a:ext cx="77407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133720"/>
                    <a:ext cx="77407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environmental issues and natural hazards that take place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664480" cy="3471840"/>
        </p:xfrm>
        <a:graphic>
          <a:graphicData uri="http://schemas.openxmlformats.org/drawingml/2006/table">
            <a:tbl>
              <a:tblPr/>
              <a:tblGrid>
                <a:gridCol w="1571760"/>
                <a:gridCol w="1594080"/>
                <a:gridCol w="1745640"/>
                <a:gridCol w="1746000"/>
                <a:gridCol w="1571760"/>
                <a:gridCol w="216000"/>
                <a:gridCol w="21924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important customs and traditions celebrated in your country. Include information about who celebrates and when they celeb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form of government and who is the leader of your country. Identify when and from whom your country gained independence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What is the GDP per capita, unemployment rate, and population below the poverty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teacher</cp:lastModifiedBy>
  <dcterms:modified xsi:type="dcterms:W3CDTF">2008-01-02T15:56:01Z</dcterms:modified>
  <cp:revision>4</cp:revision>
  <dc:subject/>
  <dc:title>Name of Your Country</dc:title>
</cp:coreProperties>
</file>